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D75-B379-471B-84AE-A64B15CF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7E6-FEA4-42BD-BC7F-04A8FE7C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5B0-73BC-44BC-AC4B-56BEC0A4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F25-AD20-47FA-956A-41A22673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17CB-1763-411A-9FDC-25708A8C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EE1C-5726-4D4C-AF11-732EFD4B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9C7A-68DC-4713-8362-571AF16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3403-DEB3-4AD2-93C4-E469FDF9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D66-6EE0-4F5F-8E95-8B4B7BB7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AE20-54CB-4BC4-ADF2-8942C584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BFA6-BCC3-4F05-B718-41605C38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4E4-217D-449B-96E6-74F96F57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C522-B300-43BA-B7FB-B18E123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9675-FD0A-4B14-8BEF-663E803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C7CE-B5D7-4F12-B9CF-DC0B720C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53FF-D9B5-4261-9746-D837266D6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9DA5-8476-4816-94F1-7950075C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4512B-79CC-4EFE-AF0E-28C6D6F4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58605-BE29-4FEC-85D0-E76AA6FF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744E-CC1D-4B59-8219-C76CA3F9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B1B4-CD42-41A3-A72E-F97BDBC2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379D-5FAC-4FA8-9C16-291B3217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B51-695E-4C8C-A7D5-FBB75B2E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D2D7-8E54-4E07-84BB-1E5ED62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B797-A6C7-42C3-AE44-DB52161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E534C-09A1-422C-81D5-FD843A8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63D2E-86FB-4019-AD48-43F5F4D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FB5E-7B5B-46C4-877E-250109DD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B5E6-E4C1-4119-99DC-39CB7C1C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AA7EA-F91C-4B23-86A2-BE23B85C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86A7-A20F-452D-B625-41C845EB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B50D-E58C-4A99-96F3-65267519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3126-8098-43E8-AA75-5BD00DF2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D51E-711F-4AAF-8E53-AD40877E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796A-0B0D-4AED-B664-3C63FADF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6917D-FA79-4C8C-B2E5-A51210AF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A3A1-A8CD-41F0-BFF1-4BE2F11A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DB732-0180-44A8-AB91-E869419D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65F4-14DF-4286-A2D5-2ED4396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D50A-02EB-4F87-8D32-BCE9DFEB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D4699-BCDD-4D54-89DE-32BA34B2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43F70-A9FD-4FA5-9194-A7AB4B0A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631E-4271-4E6C-B21B-26A603EF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6254-7841-4438-88F7-E3AD3AF7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0C8-1C96-47D9-B0BB-31818FE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17246-ACDF-4C2B-8B54-6970743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A86A-EFC0-4918-82EE-39F8690B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A1769-19B9-41F4-9A37-658B1231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2B3D-F905-489A-8A9C-E20CD11A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85B34-5C51-4A09-A52B-E6E5A0EE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43F2E-BBA8-4C3C-8E42-37505A8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FD53C-4FA7-415E-A3D7-BCD29962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5ECF-0D85-4D2A-A7B3-C08D0EE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F6E95-7EF2-49BE-84E5-2983740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5B35-CF0C-446A-A553-3C9FD1AA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238-6FC1-47BD-9D13-FA723394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68F2-1020-4D56-BAF2-F8F396D0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D6F4-37CC-4821-817F-D3F51F31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CF979-3029-49D2-915E-3708B19A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E947F-3861-4D4C-9EFB-8D2B31F8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7A06D-EE32-4C18-B5DF-5DC12E1C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FC0CE-1754-4B78-AEDF-F57E61D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4B078-1AE6-41D4-BC51-08C18B2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08191-7400-4580-A6ED-CBD35E9B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04893-5A41-4A3B-A066-82347DE5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AE0BE-38D7-4E9D-A9D8-F4C0C6F7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2A9-CA53-40EC-BED3-04620AB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B916-F279-4EBB-9B62-0AB1E8D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EFD70-F9D8-4996-95E3-AC96B93E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74BFD-4328-453E-9E1B-2FCC2B02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7611-648D-40C2-86D5-FB8E7F0D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91573-A7EA-4CA9-8175-A7843B58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510E5-BBD9-4A63-AFF9-68539736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19F7-CEDF-41A9-B5A9-45AE7760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B3E4-456E-4483-B85D-A5A30A35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F4CA-D344-42B7-8407-76E170D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B89C2-4364-4BD5-BD07-C7A7FD4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318-6AE7-46B2-9945-C0C2ACC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6BB83-993A-4F5C-BBCA-0EA1943A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2BA8-1346-45B1-B36A-96D9A6F2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4872-DE85-4624-A5BE-A9B1AB07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8B08-02D3-479B-B7C8-C23B4C70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B0852-282C-44B1-9705-19BC16B6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9EA-CC67-4337-969A-43FD569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279-F4E1-4E4F-878D-97A3C622C57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3957-C279-477F-98AF-5208B7BEC93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84D9-BF2E-4B95-AA3B-1109BAE27AD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BC85-1782-4DB7-BEE8-2DAA9993DD1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6FBA-0101-4D4A-88AC-F53AF8EEEC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490C-3FAF-4247-B33E-FF8B6594156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D0E-819E-4698-A810-67F20C0F8F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60000"/>
            <a:ext cx="76197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ravity and Mo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47560" y="220932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19 section 2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419360" y="609480"/>
            <a:ext cx="45147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saac Newton realized that there must be a force acting between Earth and the moon that kept the moon in orb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For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 push or pu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everyday forces require objects to be in contact, but the moon in orbit is a force that acts over long distances that are not in orb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1" name="Picture 4" descr="http://www.teachnet.ie/torourke/Physicswebsite/Mechanics_files/image004.jpg"/>
          <p:cNvPicPr/>
          <p:nvPr/>
        </p:nvPicPr>
        <p:blipFill>
          <a:blip r:embed="rId1"/>
          <a:stretch/>
        </p:blipFill>
        <p:spPr>
          <a:xfrm>
            <a:off x="304920" y="914400"/>
            <a:ext cx="4222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609480"/>
            <a:ext cx="7499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 force that attracts all objects toward each 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ile Newton did not discover gravity, he was the first person to realize that gravity occurs everywhe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ce of gravity is measured in a unit called newt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w of Universal Gravita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every object in the universe attracts every other obje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5" descr="EarthMS_J17_Gravity1_sx5590b3"/>
          <p:cNvPicPr/>
          <p:nvPr/>
        </p:nvPicPr>
        <p:blipFill>
          <a:blip r:embed="rId1"/>
          <a:stretch/>
        </p:blipFill>
        <p:spPr>
          <a:xfrm>
            <a:off x="2743200" y="1752480"/>
            <a:ext cx="4314960" cy="1505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EarthMS_J17_Gravity3_sx5590b3"/>
          <p:cNvPicPr/>
          <p:nvPr/>
        </p:nvPicPr>
        <p:blipFill>
          <a:blip r:embed="rId2"/>
          <a:stretch/>
        </p:blipFill>
        <p:spPr>
          <a:xfrm>
            <a:off x="1433520" y="4446720"/>
            <a:ext cx="62769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ass and Weigh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strength of the force of gravity between two objects depends on two factors: the masses of the objects and the distance between the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Mass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the amount of matter in an objec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strength of gravity depends in part on the masses of each of the objec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- the force of gravity on an objec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n change depending on loc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force of gravity decreases rapidly as distance increas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Inerti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tendency of an object to resist a change in mo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more mass an object has, the greater its inert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Newton’s first law of mo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n object at rest will stay at rest and an object in motion will stay in motion with a constant speed and direction unless acted on by a for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447560" y="4568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wton concluded that two factors- inertia and gravity- combine to keep Earth in orbit around the sun and the moon in orbit around Ea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19" descr="EarthMS_J19_Orbit_labels_sx5588b3"/>
          <p:cNvPicPr/>
          <p:nvPr/>
        </p:nvPicPr>
        <p:blipFill>
          <a:blip r:embed="rId1"/>
          <a:stretch/>
        </p:blipFill>
        <p:spPr>
          <a:xfrm>
            <a:off x="685800" y="2514600"/>
            <a:ext cx="8069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22:41:36Z</dcterms:created>
  <dc:creator>Falcon School District 49</dc:creator>
  <dc:description/>
  <dc:language>en-US</dc:language>
  <cp:lastModifiedBy>Falcon School District 49</cp:lastModifiedBy>
  <dcterms:modified xsi:type="dcterms:W3CDTF">2009-09-23T23:29:35Z</dcterms:modified>
  <cp:revision>3</cp:revision>
  <dc:subject/>
  <dc:title>Gravity and Motion</dc:title>
</cp:coreProperties>
</file>